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D3C-941E-41DB-92A0-BB89A39E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377-C25F-4926-A6F7-9CEB2258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5A6-91EF-47A6-A9A8-59C47DE3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466-491B-4755-AF81-668078D1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8EF6-7E89-4794-8788-6470C546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E49-F5DB-4D12-9DBD-37D4C3D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401D-CB37-42D4-B939-48C5045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1DD-AAC2-4DDA-8079-21386862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C5E-1151-4E53-A67F-016C1DDB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897-4CF3-44C2-8016-7DEEA2D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514-A0AB-4BF0-8F1E-1620A76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3B6-04AA-465F-AA1D-DEC7BC0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01E0-E2D6-4D84-B971-A8A595F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121-5066-4D88-9B43-177F4B1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645-6953-4B26-B67C-4AD5164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F26-D33B-4C6A-9BA5-5BD4B60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DB7B-210A-46A5-B8FD-E35192CB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DB9-82FA-40EB-BF93-D7FC12B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7ED-2096-40A3-BC7D-6B40501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566-D90E-4590-B353-E1DFB565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2CF-FEB8-4168-93BA-2ACAB2D9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293-C57D-4374-B685-F100452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CA4-F1A8-4378-8D3D-3EE3820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0BF-B1DE-4074-B331-684DCAD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FE1-489D-4193-85AD-E2823E7B33B4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B55E-DA77-455E-B1C4-79AB95CD216A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bbleshare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bubbleshare.com/album/428023.885fe1045e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animoto.com/play/e5gKCE5S8aLE07hQ1foWRQ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ikistrip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ockyou.com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ockyou.com/show_my_gallery.php?source=ppsl&amp;instanceid=118518595" TargetMode="External"/><Relationship Id="rId2" Type="http://schemas.openxmlformats.org/officeDocument/2006/relationships/hyperlink" Target="http://www.rockyou.com/show_my_gallery.php?source=ppsl&amp;instanceid=11851918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slide.com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7785000" cy="264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9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5339"/>
                </a:solidFill>
                <a:latin typeface="Candara"/>
              </a:rPr>
              <a:t>Connie White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5339"/>
                </a:solidFill>
                <a:latin typeface="Candara"/>
              </a:rPr>
              <a:t>Director of Technology &amp; Media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9000"/>
          </a:bodyPr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slide.com/r/ag7-Fttb5D8KWXWy8RF2x6XWDvSU73Wp?previous_view=mscd_embedded_url&amp;view=origina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reate a Graph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nces.ed.gov/nceskids/createagraph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Nicene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nicenet.org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GoWeb20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go2web20.net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Bubbleshare 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bubbleshare.com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ubbleBar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ubbleWidge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gn up for an accoun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reate an albu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lect theme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Add effect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hare the albu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5543280" cy="3598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981080" y="52578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b7300"/>
                </a:solidFill>
                <a:uFillTx/>
                <a:latin typeface="Candara"/>
                <a:hlinkClick r:id="rId3"/>
              </a:rPr>
              <a:t>http://www.bubbleshare.com/album/428023.885fe1045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Get pictures – must have 10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Add music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naliz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animoto.com/play/e5gKCE5S8aLE07hQ1foWRQ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2" name="Picture 7" descr="animoto.jpg"/>
          <p:cNvPicPr/>
          <p:nvPr/>
        </p:nvPicPr>
        <p:blipFill>
          <a:blip r:embed="rId3"/>
          <a:stretch/>
        </p:blipFill>
        <p:spPr>
          <a:xfrm>
            <a:off x="2819520" y="4648320"/>
            <a:ext cx="37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Pikistrips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pikistrips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20080" cy="271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omic-p"/>
          <p:cNvPicPr/>
          <p:nvPr/>
        </p:nvPicPr>
        <p:blipFill>
          <a:blip r:embed="rId2"/>
          <a:stretch/>
        </p:blipFill>
        <p:spPr>
          <a:xfrm>
            <a:off x="1447920" y="3352680"/>
            <a:ext cx="6318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ock You!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rockyou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0" name="Picture 3" descr="rockyou.jpg"/>
          <p:cNvPicPr/>
          <p:nvPr/>
        </p:nvPicPr>
        <p:blipFill>
          <a:blip r:embed="rId3"/>
          <a:stretch/>
        </p:blipFill>
        <p:spPr>
          <a:xfrm>
            <a:off x="685800" y="2743200"/>
            <a:ext cx="7715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1"/>
              </a:rPr>
              <a:t>http://www.rockyou.com/show_my_gallery.php?source=ppsl&amp;instanceid=118518595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rockyou.com/show_my_gallery.php?source=ppsl&amp;instanceid=118519183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lide.com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slide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5" name="Picture 3" descr="slide.com"/>
          <p:cNvPicPr/>
          <p:nvPr/>
        </p:nvPicPr>
        <p:blipFill>
          <a:blip r:embed="rId3"/>
          <a:stretch/>
        </p:blipFill>
        <p:spPr>
          <a:xfrm>
            <a:off x="1905120" y="2133720"/>
            <a:ext cx="508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2:25:01Z</dcterms:created>
  <dc:creator>Connie White</dc:creator>
  <dc:description/>
  <dc:language>en-US</dc:language>
  <cp:lastModifiedBy>Connie White</cp:lastModifiedBy>
  <dcterms:modified xsi:type="dcterms:W3CDTF">2008-07-29T18:12:53Z</dcterms:modified>
  <cp:revision>25</cp:revision>
  <dc:subject/>
  <dc:title>Slide 1</dc:title>
</cp:coreProperties>
</file>